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13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wmf" ContentType="image/x-wmf"/>
  <Override PartName="/ppt/media/image5.png" ContentType="image/png"/>
  <Override PartName="/ppt/media/image10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749C-181C-4B7B-A884-891F08B45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2274-5408-42A5-AF2D-62DF2A5D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D43F-4AE4-4E87-8CEA-E712215F2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6043-969E-4DC6-BB62-7D0F4F9A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6964-8EA6-4DBC-9964-B5838251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0BD7-1677-483A-B44D-392B6333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4B93-2992-4237-9FBF-552816CB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3651-3A8C-4DC0-9A7C-A8F70011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88DC-3C7F-479D-97C7-5252CB75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6C5A-57BE-4A5C-BEB5-163B30B5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7231-CF59-471E-BD87-054FC2C2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7D92-61E2-4A64-BBBF-65ACCA4B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C3EB-E3C7-40D5-A6E4-AD28AF30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4D0A-B38B-4306-87D8-2C305364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F8F4-E09B-4DFB-8642-56B183C0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607D-9F3E-4B7C-AFCB-611078F0E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CBD3-2B5C-4C1D-BD38-C5DEC351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F5968-C2CE-4F16-914C-D260102A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43419-6902-4883-87A6-498E64D8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9AFA8-CDAB-4AAA-B9A8-56BCA6DE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8EDEC-FE22-4B16-9734-29FBD57A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BFA06-7116-409B-92FA-982F48E3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A2D0-E8BF-4382-BB1E-55B8A74C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EABBB-1678-4BCD-ACF5-880F2AC3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DB0F5-DA7E-44FB-9181-6B5B077F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934C2-F6A8-40E0-853B-F3FD50F3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F4B04-180A-4D09-9FF4-ABAACE84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4F2ED-024D-43EF-BE3C-01DAC420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BC2B0-7EFB-4965-B002-C6554F1F9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A5F1B-7BD2-4A65-87EA-BFCA67812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0273D-059D-4D30-96F8-42BA13B3C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E1CFE-E7F5-4835-84FD-65E6C2CB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D61B2-DFB0-4AD1-8D5E-6FA41D79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0DC4-D038-4A8F-94D2-8CB0B500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79876-A030-41ED-BBDB-72AB05BA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3F5CF-6E7C-418F-A510-9AD20DD1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AAF28-F23E-402C-99E8-C1BED8F7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551FA-E68F-4567-9B9F-9431CB5B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39CDC-FFA1-4B21-AC05-23EA35D1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3F9CE-F01F-4CA4-87C5-BE22DEF9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0FAD1-E597-4454-AB13-0544808F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CD6BD-CEA4-43D9-BDAF-307E2883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59FD0-C84D-4E60-BC4C-1DF77F5D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CEB8-D1FD-4391-A41B-72E6E006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A64F-473E-49DD-A3BB-9840FF74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EDAD-4730-4CF9-95F0-F1AD9C03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A602-08B4-458F-B893-828398AC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9DFE-D62C-4C6B-80F3-D70A338E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4A96-4C84-4C39-9C14-1E905B858FA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C782-C19D-4EAE-92D2-300B37E6815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67C8-3B6C-4998-88F6-E1E4DE3208A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F573-72E7-4BB2-887B-E7FBA045D05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151776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96252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 Samantha Nielsen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eriod 6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Title 1" descr=""/>
          <p:cNvPicPr/>
          <p:nvPr/>
        </p:nvPicPr>
        <p:blipFill>
          <a:blip r:embed="rId1"/>
          <a:stretch/>
        </p:blipFill>
        <p:spPr>
          <a:xfrm>
            <a:off x="73080" y="268200"/>
            <a:ext cx="8656560" cy="5151600"/>
          </a:xfrm>
          <a:prstGeom prst="rect">
            <a:avLst/>
          </a:prstGeom>
          <a:ln w="0">
            <a:noFill/>
          </a:ln>
        </p:spPr>
      </p:pic>
      <p:sp>
        <p:nvSpPr>
          <p:cNvPr id="220" name="Action Button: Forward or Next 2"/>
          <p:cNvSpPr/>
          <p:nvPr/>
        </p:nvSpPr>
        <p:spPr>
          <a:xfrm>
            <a:off x="7086600" y="57913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le 1" descr=""/>
          <p:cNvPicPr/>
          <p:nvPr/>
        </p:nvPicPr>
        <p:blipFill>
          <a:blip r:embed="rId1"/>
          <a:stretch/>
        </p:blipFill>
        <p:spPr>
          <a:xfrm>
            <a:off x="42840" y="298440"/>
            <a:ext cx="8577360" cy="3548160"/>
          </a:xfrm>
          <a:prstGeom prst="rect">
            <a:avLst/>
          </a:prstGeom>
          <a:ln w="0">
            <a:noFill/>
          </a:ln>
        </p:spPr>
      </p:pic>
      <p:sp>
        <p:nvSpPr>
          <p:cNvPr id="222" name="Diamond 2"/>
          <p:cNvSpPr/>
          <p:nvPr/>
        </p:nvSpPr>
        <p:spPr>
          <a:xfrm>
            <a:off x="1752480" y="3962520"/>
            <a:ext cx="2057400" cy="2133360"/>
          </a:xfrm>
          <a:prstGeom prst="diamond">
            <a:avLst/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u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iamond 3"/>
          <p:cNvSpPr/>
          <p:nvPr/>
        </p:nvSpPr>
        <p:spPr>
          <a:xfrm>
            <a:off x="5562720" y="3962520"/>
            <a:ext cx="1981080" cy="2133360"/>
          </a:xfrm>
          <a:prstGeom prst="diamond">
            <a:avLst/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73080" y="268200"/>
            <a:ext cx="8894880" cy="5761080"/>
          </a:xfrm>
          <a:prstGeom prst="rect">
            <a:avLst/>
          </a:prstGeom>
          <a:ln w="0">
            <a:noFill/>
          </a:ln>
        </p:spPr>
      </p:pic>
      <p:sp>
        <p:nvSpPr>
          <p:cNvPr id="225" name="Action Button: Forward or Next 2"/>
          <p:cNvSpPr/>
          <p:nvPr/>
        </p:nvSpPr>
        <p:spPr>
          <a:xfrm>
            <a:off x="7543800" y="57913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6" h="21600">
                <a:moveTo>
                  <a:pt x="5957" y="3794"/>
                </a:moveTo>
                <a:lnTo>
                  <a:pt x="19970" y="10800"/>
                </a:lnTo>
                <a:lnTo>
                  <a:pt x="5957" y="17806"/>
                </a:lnTo>
                <a:close/>
              </a:path>
            </a:pathLst>
          </a:cu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73080" y="268200"/>
            <a:ext cx="8620200" cy="4919760"/>
          </a:xfrm>
          <a:prstGeom prst="rect">
            <a:avLst/>
          </a:prstGeom>
          <a:ln w="0">
            <a:noFill/>
          </a:ln>
        </p:spPr>
      </p:pic>
      <p:sp>
        <p:nvSpPr>
          <p:cNvPr id="227" name="Action Button: Forward or Next 2"/>
          <p:cNvSpPr/>
          <p:nvPr/>
        </p:nvSpPr>
        <p:spPr>
          <a:xfrm>
            <a:off x="7391520" y="579132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0" y="298440"/>
            <a:ext cx="8620200" cy="4968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C:\Documents and Settings\15SamanthaN\Local Settings\Temporary Internet Files\Content.IE5\586XCZSU\MC900105220[1].wmf"/>
          <p:cNvPicPr/>
          <p:nvPr/>
        </p:nvPicPr>
        <p:blipFill>
          <a:blip r:embed="rId2"/>
          <a:stretch/>
        </p:blipFill>
        <p:spPr>
          <a:xfrm>
            <a:off x="5181480" y="4572000"/>
            <a:ext cx="274320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itle 1" descr=""/>
          <p:cNvPicPr/>
          <p:nvPr/>
        </p:nvPicPr>
        <p:blipFill>
          <a:blip r:embed="rId1"/>
          <a:stretch/>
        </p:blipFill>
        <p:spPr>
          <a:xfrm>
            <a:off x="36360" y="969840"/>
            <a:ext cx="8583840" cy="2237040"/>
          </a:xfrm>
          <a:prstGeom prst="rect">
            <a:avLst/>
          </a:prstGeom>
          <a:ln w="0">
            <a:noFill/>
          </a:ln>
        </p:spPr>
      </p:pic>
      <p:sp>
        <p:nvSpPr>
          <p:cNvPr id="198" name="Rounded Rectangle 2">
            <a:hlinkClick r:id="rId2" action="ppaction://hlinksldjump"/>
          </p:cNvPr>
          <p:cNvSpPr/>
          <p:nvPr/>
        </p:nvSpPr>
        <p:spPr>
          <a:xfrm>
            <a:off x="1219320" y="3505320"/>
            <a:ext cx="2514600" cy="1371600"/>
          </a:xfrm>
          <a:prstGeom prst="roundRect">
            <a:avLst>
              <a:gd name="adj" fmla="val 16667"/>
            </a:avLst>
          </a:prstGeom>
          <a:solidFill>
            <a:srgbClr val="21b2c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Constantia"/>
              </a:rPr>
              <a:t>All my friends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ounded Rectangle 3">
            <a:hlinkClick r:id="rId3" action="ppaction://hlinksldjump"/>
          </p:cNvPr>
          <p:cNvSpPr/>
          <p:nvPr/>
        </p:nvSpPr>
        <p:spPr>
          <a:xfrm>
            <a:off x="5181480" y="3505320"/>
            <a:ext cx="2514600" cy="1371600"/>
          </a:xfrm>
          <a:prstGeom prst="roundRect">
            <a:avLst>
              <a:gd name="adj" fmla="val 16667"/>
            </a:avLst>
          </a:prstGeom>
          <a:solidFill>
            <a:srgbClr val="21b2c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My parents and no one else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Title 1" descr=""/>
          <p:cNvPicPr/>
          <p:nvPr/>
        </p:nvPicPr>
        <p:blipFill>
          <a:blip r:embed="rId1"/>
          <a:stretch/>
        </p:blipFill>
        <p:spPr>
          <a:xfrm>
            <a:off x="73080" y="268200"/>
            <a:ext cx="8632800" cy="5529240"/>
          </a:xfrm>
          <a:prstGeom prst="rect">
            <a:avLst/>
          </a:prstGeom>
          <a:ln w="0">
            <a:noFill/>
          </a:ln>
        </p:spPr>
      </p:pic>
      <p:sp>
        <p:nvSpPr>
          <p:cNvPr id="201" name="Action Button: Forward or Next 2">
            <a:hlinkClick r:id="rId2" action="ppaction://hlinksldjump"/>
          </p:cNvPr>
          <p:cNvSpPr/>
          <p:nvPr/>
        </p:nvSpPr>
        <p:spPr>
          <a:xfrm>
            <a:off x="7086600" y="5562720"/>
            <a:ext cx="990720" cy="76176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8089" h="21600">
                <a:moveTo>
                  <a:pt x="0" y="0"/>
                </a:moveTo>
                <a:lnTo>
                  <a:pt x="28089" y="0"/>
                </a:lnTo>
                <a:lnTo>
                  <a:pt x="28089" y="21600"/>
                </a:lnTo>
                <a:lnTo>
                  <a:pt x="0" y="21600"/>
                </a:lnTo>
                <a:close/>
              </a:path>
              <a:path fill="lightenLess" w="28089" h="21600">
                <a:moveTo>
                  <a:pt x="0" y="0"/>
                </a:moveTo>
                <a:lnTo>
                  <a:pt x="28089" y="0"/>
                </a:lnTo>
                <a:lnTo>
                  <a:pt x="26689" y="1400"/>
                </a:lnTo>
                <a:lnTo>
                  <a:pt x="1400" y="1400"/>
                </a:lnTo>
                <a:close/>
              </a:path>
              <a:path fill="darken" w="28089" h="21600">
                <a:moveTo>
                  <a:pt x="28089" y="0"/>
                </a:moveTo>
                <a:lnTo>
                  <a:pt x="28089" y="21600"/>
                </a:lnTo>
                <a:lnTo>
                  <a:pt x="26689" y="20200"/>
                </a:lnTo>
                <a:lnTo>
                  <a:pt x="26689" y="1400"/>
                </a:lnTo>
                <a:close/>
              </a:path>
              <a:path fill="darkenLess" w="28089" h="21600">
                <a:moveTo>
                  <a:pt x="28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89" y="20200"/>
                </a:lnTo>
                <a:close/>
              </a:path>
              <a:path fill="lighten" w="28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89" h="21600">
                <a:moveTo>
                  <a:pt x="7038" y="3794"/>
                </a:moveTo>
                <a:lnTo>
                  <a:pt x="21051" y="10800"/>
                </a:lnTo>
                <a:lnTo>
                  <a:pt x="7038" y="17806"/>
                </a:lnTo>
                <a:close/>
              </a:path>
            </a:pathLst>
          </a:cu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C:\Documents and Settings\15SamanthaN\Local Settings\Temporary Internet Files\Content.IE5\4JBEEXS7\MP900390550[1].jpg"/>
          <p:cNvPicPr/>
          <p:nvPr/>
        </p:nvPicPr>
        <p:blipFill>
          <a:blip r:embed="rId3"/>
          <a:stretch/>
        </p:blipFill>
        <p:spPr>
          <a:xfrm>
            <a:off x="3276720" y="914400"/>
            <a:ext cx="20304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Incorrect!</a:t>
            </a:r>
            <a:br>
              <a:rPr sz="3600"/>
            </a:b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You should never give your password to anyone, even your friends. The only person who should know your passwords are you, and sometimes your parents. Your passwords are YOUR busines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Action Button: Forward or Next 2">
            <a:hlinkClick r:id="" action="ppaction://hlinkshowjump?jump=nextslide"/>
          </p:cNvPr>
          <p:cNvSpPr/>
          <p:nvPr/>
        </p:nvSpPr>
        <p:spPr>
          <a:xfrm>
            <a:off x="7315200" y="5791320"/>
            <a:ext cx="990720" cy="76176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8089" h="21600">
                <a:moveTo>
                  <a:pt x="0" y="0"/>
                </a:moveTo>
                <a:lnTo>
                  <a:pt x="28089" y="0"/>
                </a:lnTo>
                <a:lnTo>
                  <a:pt x="28089" y="21600"/>
                </a:lnTo>
                <a:lnTo>
                  <a:pt x="0" y="21600"/>
                </a:lnTo>
                <a:close/>
              </a:path>
              <a:path fill="lightenLess" w="28089" h="21600">
                <a:moveTo>
                  <a:pt x="0" y="0"/>
                </a:moveTo>
                <a:lnTo>
                  <a:pt x="28089" y="0"/>
                </a:lnTo>
                <a:lnTo>
                  <a:pt x="26689" y="1400"/>
                </a:lnTo>
                <a:lnTo>
                  <a:pt x="1400" y="1400"/>
                </a:lnTo>
                <a:close/>
              </a:path>
              <a:path fill="darken" w="28089" h="21600">
                <a:moveTo>
                  <a:pt x="28089" y="0"/>
                </a:moveTo>
                <a:lnTo>
                  <a:pt x="28089" y="21600"/>
                </a:lnTo>
                <a:lnTo>
                  <a:pt x="26689" y="20200"/>
                </a:lnTo>
                <a:lnTo>
                  <a:pt x="26689" y="1400"/>
                </a:lnTo>
                <a:close/>
              </a:path>
              <a:path fill="darkenLess" w="28089" h="21600">
                <a:moveTo>
                  <a:pt x="28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89" y="20200"/>
                </a:lnTo>
                <a:close/>
              </a:path>
              <a:path fill="lighten" w="28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89" h="21600">
                <a:moveTo>
                  <a:pt x="7038" y="3794"/>
                </a:moveTo>
                <a:lnTo>
                  <a:pt x="21051" y="10800"/>
                </a:lnTo>
                <a:lnTo>
                  <a:pt x="7038" y="17806"/>
                </a:lnTo>
                <a:close/>
              </a:path>
            </a:pathLst>
          </a:cu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176040" y="1109520"/>
            <a:ext cx="8723520" cy="316404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2">
            <a:hlinkClick r:id="rId2" action="ppaction://hlinksldjump"/>
          </p:cNvPr>
          <p:cNvSpPr/>
          <p:nvPr/>
        </p:nvSpPr>
        <p:spPr>
          <a:xfrm>
            <a:off x="1066680" y="3733920"/>
            <a:ext cx="2590920" cy="1828800"/>
          </a:xfrm>
          <a:prstGeom prst="rect">
            <a:avLst/>
          </a:prstGeom>
          <a:solidFill>
            <a:srgbClr val="089ca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give them your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5715000" y="3733920"/>
            <a:ext cx="2590920" cy="1828800"/>
          </a:xfrm>
          <a:prstGeom prst="rect">
            <a:avLst/>
          </a:prstGeom>
          <a:solidFill>
            <a:srgbClr val="089ca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just delete the 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Title 1" descr=""/>
          <p:cNvPicPr/>
          <p:nvPr/>
        </p:nvPicPr>
        <p:blipFill>
          <a:blip r:embed="rId1"/>
          <a:stretch/>
        </p:blipFill>
        <p:spPr>
          <a:xfrm>
            <a:off x="85680" y="268200"/>
            <a:ext cx="8697960" cy="4919760"/>
          </a:xfrm>
          <a:prstGeom prst="rect">
            <a:avLst/>
          </a:prstGeom>
          <a:ln w="0">
            <a:noFill/>
          </a:ln>
        </p:spPr>
      </p:pic>
      <p:sp>
        <p:nvSpPr>
          <p:cNvPr id="210" name="Action Button: Forward or Next 2"/>
          <p:cNvSpPr/>
          <p:nvPr/>
        </p:nvSpPr>
        <p:spPr>
          <a:xfrm>
            <a:off x="7162920" y="57150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7392" y="3794"/>
                </a:moveTo>
                <a:lnTo>
                  <a:pt x="21405" y="10800"/>
                </a:lnTo>
                <a:lnTo>
                  <a:pt x="7392" y="17806"/>
                </a:lnTo>
                <a:close/>
              </a:path>
            </a:pathLst>
          </a:cu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C:\Documents and Settings\15SamanthaN\Local Settings\Temporary Internet Files\Content.IE5\MKWC8GUI\MM900282845[1].gif"/>
          <p:cNvPicPr/>
          <p:nvPr/>
        </p:nvPicPr>
        <p:blipFill>
          <a:blip r:embed="rId2"/>
          <a:stretch/>
        </p:blipFill>
        <p:spPr>
          <a:xfrm rot="20946000">
            <a:off x="6324120" y="990360"/>
            <a:ext cx="2179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Title 1" descr=""/>
          <p:cNvPicPr/>
          <p:nvPr/>
        </p:nvPicPr>
        <p:blipFill>
          <a:blip r:embed="rId1"/>
          <a:stretch/>
        </p:blipFill>
        <p:spPr>
          <a:xfrm>
            <a:off x="73080" y="268200"/>
            <a:ext cx="8881920" cy="5834160"/>
          </a:xfrm>
          <a:prstGeom prst="rect">
            <a:avLst/>
          </a:prstGeom>
          <a:ln w="0">
            <a:noFill/>
          </a:ln>
        </p:spPr>
      </p:pic>
      <p:sp>
        <p:nvSpPr>
          <p:cNvPr id="213" name="Action Button: Forward or Next 2">
            <a:hlinkClick r:id="" action="ppaction://hlinkshowjump?jump=nextslide"/>
          </p:cNvPr>
          <p:cNvSpPr/>
          <p:nvPr/>
        </p:nvSpPr>
        <p:spPr>
          <a:xfrm>
            <a:off x="7086600" y="579132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7392" y="3794"/>
                </a:moveTo>
                <a:lnTo>
                  <a:pt x="21405" y="10800"/>
                </a:lnTo>
                <a:lnTo>
                  <a:pt x="7392" y="17806"/>
                </a:lnTo>
                <a:close/>
              </a:path>
            </a:pathLst>
          </a:cu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Title 1" descr=""/>
          <p:cNvPicPr/>
          <p:nvPr/>
        </p:nvPicPr>
        <p:blipFill>
          <a:blip r:embed="rId1"/>
          <a:stretch/>
        </p:blipFill>
        <p:spPr>
          <a:xfrm>
            <a:off x="73080" y="268200"/>
            <a:ext cx="8620200" cy="3700440"/>
          </a:xfrm>
          <a:prstGeom prst="rect">
            <a:avLst/>
          </a:prstGeom>
          <a:ln w="0">
            <a:noFill/>
          </a:ln>
        </p:spPr>
      </p:pic>
      <p:sp>
        <p:nvSpPr>
          <p:cNvPr id="215" name="5-Point Star 2"/>
          <p:cNvSpPr/>
          <p:nvPr/>
        </p:nvSpPr>
        <p:spPr>
          <a:xfrm>
            <a:off x="990720" y="3505320"/>
            <a:ext cx="2438280" cy="2590560"/>
          </a:xfrm>
          <a:prstGeom prst="pie">
            <a:avLst/>
          </a:prstGeom>
          <a:solidFill>
            <a:srgbClr val="21b2c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y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5-Point Star 3"/>
          <p:cNvSpPr/>
          <p:nvPr/>
        </p:nvSpPr>
        <p:spPr>
          <a:xfrm>
            <a:off x="5486400" y="3581280"/>
            <a:ext cx="2362320" cy="2514600"/>
          </a:xfrm>
          <a:prstGeom prst="pie">
            <a:avLst/>
          </a:prstGeom>
          <a:solidFill>
            <a:srgbClr val="21b2c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n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Title 1" descr=""/>
          <p:cNvPicPr/>
          <p:nvPr/>
        </p:nvPicPr>
        <p:blipFill>
          <a:blip r:embed="rId1"/>
          <a:stretch/>
        </p:blipFill>
        <p:spPr>
          <a:xfrm>
            <a:off x="152280" y="682560"/>
            <a:ext cx="8925120" cy="4889520"/>
          </a:xfrm>
          <a:prstGeom prst="rect">
            <a:avLst/>
          </a:prstGeom>
          <a:ln w="0">
            <a:noFill/>
          </a:ln>
        </p:spPr>
      </p:pic>
      <p:sp>
        <p:nvSpPr>
          <p:cNvPr id="218" name="Action Button: Forward or Next 2"/>
          <p:cNvSpPr/>
          <p:nvPr/>
        </p:nvSpPr>
        <p:spPr>
          <a:xfrm>
            <a:off x="7238880" y="56386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56" h="21600">
                <a:moveTo>
                  <a:pt x="4772" y="3794"/>
                </a:moveTo>
                <a:lnTo>
                  <a:pt x="18785" y="10800"/>
                </a:lnTo>
                <a:lnTo>
                  <a:pt x="4772" y="17806"/>
                </a:lnTo>
                <a:close/>
              </a:path>
            </a:pathLst>
          </a:cu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8:48:26Z</dcterms:created>
  <dc:creator>HSD</dc:creator>
  <dc:description/>
  <dc:language>en-US</dc:language>
  <cp:lastModifiedBy>HSD</cp:lastModifiedBy>
  <dcterms:modified xsi:type="dcterms:W3CDTF">2010-05-19T17:48:14Z</dcterms:modified>
  <cp:revision>14</cp:revision>
  <dc:subject/>
  <dc:title>Internet Safety Quiz</dc:title>
</cp:coreProperties>
</file>